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513-149B-4D2D-A459-16F3C317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1775-5B0E-447A-B06B-4C5C41B2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CCD-CE80-4F44-B41F-FDA36892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682-2986-44BA-BBF0-0A9CE8D9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79E-CDD6-4AFD-96B6-783A17C3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921-8393-4593-B111-315D2ADB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EC7-0C1A-4842-A8B8-8A4B79E6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212-EE23-4400-9788-E5700065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C80-0E5F-4087-AFA8-1DD63D82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59B-7F9E-4BD4-B0D1-297D9B00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773-CF6B-449D-8770-2FFFFB61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2EA-1DC4-407D-86C1-F3E4660D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7A45-8033-4B72-B445-AEE9325675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на тему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Наш класс- многонациональная сем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85960"/>
            <a:ext cx="64008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Calibri"/>
              </a:rPr>
              <a:t>Выполнила ученица 3 г класс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Calibri"/>
              </a:rPr>
              <a:t>МБОУ СОШ № 13 имени Д.И. Кашиг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Calibri"/>
              </a:rPr>
              <a:t>Пашнина Екатер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Calibri"/>
              </a:rPr>
              <a:t>Руководитель: учитель начальных классов Туманова Н.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бы окончательно выяснить влияет ли национальность на дружбу в нашем классе я вместе с учителем провела диагностику (социометрию). Я предложила  детям представить, что у них день рождения, и они могут пригласить к себе в гости три человека из класса. Они записали имена приглашенных . Потом я составила диаграмму выбора из которой хорошо видны наши симпат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5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2296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7295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ня  очень беспокоило, выберет ли  кто-нибудь детей других национальностей? Каждый получил выбор одноклассник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перь я с уверенностью могу сказать, что в нашем классе дружба не зависит от национальности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ждый народ имеет свои традиции, свой национальный костюм, свои  обряды, свои песни и танцы. Мне пришла в голову одна мысль:  пусть мои одноклассники сами немного расскажут о своей национа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сожалению, они не смогли со мной приехать, но я узнала, следующее: в  моем классе большинство русских ребят. Представляю вашему вниманию  русский  национальный костюм. По опросу самым любимым русским блюдом в нашем классе оказались блины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:\Users\домашний\Documents\блины.jpg"/>
          <p:cNvPicPr/>
          <p:nvPr/>
        </p:nvPicPr>
        <p:blipFill>
          <a:blip r:embed="rId1"/>
          <a:stretch/>
        </p:blipFill>
        <p:spPr>
          <a:xfrm>
            <a:off x="3500280" y="2571840"/>
            <a:ext cx="3143520" cy="285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F:\МУЗЕЙ И ПР,\SDC10036.JPG"/>
          <p:cNvPicPr/>
          <p:nvPr/>
        </p:nvPicPr>
        <p:blipFill>
          <a:blip r:embed="rId2"/>
          <a:stretch/>
        </p:blipFill>
        <p:spPr>
          <a:xfrm>
            <a:off x="6643800" y="2857680"/>
            <a:ext cx="1785960" cy="3071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F:\МУЗЕЙ И ПР,\SDC10037.JPG"/>
          <p:cNvPicPr/>
          <p:nvPr/>
        </p:nvPicPr>
        <p:blipFill>
          <a:blip r:embed="rId3"/>
          <a:stretch/>
        </p:blipFill>
        <p:spPr>
          <a:xfrm>
            <a:off x="6429240" y="50004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:\DSC00191.JPG"/>
          <p:cNvPicPr/>
          <p:nvPr/>
        </p:nvPicPr>
        <p:blipFill>
          <a:blip r:embed="rId4"/>
          <a:stretch/>
        </p:blipFill>
        <p:spPr>
          <a:xfrm>
            <a:off x="214200" y="642960"/>
            <a:ext cx="35006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ою подругу зовут  Азал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что с башкирского означает «утешающая».  Самым популярным башкирским блюдом является бешбармак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Users\домашний\Documents\башкирка.jpg"/>
          <p:cNvPicPr/>
          <p:nvPr/>
        </p:nvPicPr>
        <p:blipFill>
          <a:blip r:embed="rId1"/>
          <a:stretch/>
        </p:blipFill>
        <p:spPr>
          <a:xfrm>
            <a:off x="285840" y="2286000"/>
            <a:ext cx="2786040" cy="3929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домашний\Documents\башкирин.jpg"/>
          <p:cNvPicPr/>
          <p:nvPr/>
        </p:nvPicPr>
        <p:blipFill>
          <a:blip r:embed="rId2"/>
          <a:stretch/>
        </p:blipFill>
        <p:spPr>
          <a:xfrm>
            <a:off x="5929200" y="2357280"/>
            <a:ext cx="3000600" cy="4071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Users\домашний\Documents\бешбармак.jpg"/>
          <p:cNvPicPr/>
          <p:nvPr/>
        </p:nvPicPr>
        <p:blipFill>
          <a:blip r:embed="rId3"/>
          <a:stretch/>
        </p:blipFill>
        <p:spPr>
          <a:xfrm>
            <a:off x="3071880" y="3214800"/>
            <a:ext cx="2714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ю одноклассницу зовут  Гулру, она по национальности таджичка. Самым популярным таджикским блюдом является плов. Поскольку наши народы живут вместе - любят и готовят  плов люди разных националь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C:\Users\домашний\Documents\таджик.jpg"/>
          <p:cNvPicPr/>
          <p:nvPr/>
        </p:nvPicPr>
        <p:blipFill>
          <a:blip r:embed="rId1"/>
          <a:stretch/>
        </p:blipFill>
        <p:spPr>
          <a:xfrm>
            <a:off x="6215040" y="1928880"/>
            <a:ext cx="2714760" cy="4286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Users\домашний\Documents\плов 1.jpg"/>
          <p:cNvPicPr/>
          <p:nvPr/>
        </p:nvPicPr>
        <p:blipFill>
          <a:blip r:embed="rId2"/>
          <a:stretch/>
        </p:blipFill>
        <p:spPr>
          <a:xfrm>
            <a:off x="2928960" y="1785960"/>
            <a:ext cx="3357720" cy="4786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Users\домашний\Documents\таджичка 3.jpg"/>
          <p:cNvPicPr/>
          <p:nvPr/>
        </p:nvPicPr>
        <p:blipFill>
          <a:blip r:embed="rId3"/>
          <a:stretch/>
        </p:blipFill>
        <p:spPr>
          <a:xfrm>
            <a:off x="214200" y="1857240"/>
            <a:ext cx="2857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186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ставляю Вам сегодня свою национальность, я татарка и любимое татарское блюдо нашей семьи - это  чак-чак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C:\Users\домашний\Documents\татарин.jpg"/>
          <p:cNvPicPr/>
          <p:nvPr/>
        </p:nvPicPr>
        <p:blipFill>
          <a:blip r:embed="rId1"/>
          <a:stretch/>
        </p:blipFill>
        <p:spPr>
          <a:xfrm>
            <a:off x="5715000" y="1714680"/>
            <a:ext cx="3000240" cy="4286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домашний\Documents\чак чак.jpg"/>
          <p:cNvPicPr/>
          <p:nvPr/>
        </p:nvPicPr>
        <p:blipFill>
          <a:blip r:embed="rId2"/>
          <a:stretch/>
        </p:blipFill>
        <p:spPr>
          <a:xfrm>
            <a:off x="3143160" y="1714680"/>
            <a:ext cx="2857680" cy="3929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F:\DSC00193.JPG"/>
          <p:cNvPicPr/>
          <p:nvPr/>
        </p:nvPicPr>
        <p:blipFill>
          <a:blip r:embed="rId3"/>
          <a:stretch/>
        </p:blipFill>
        <p:spPr>
          <a:xfrm>
            <a:off x="214200" y="1500120"/>
            <a:ext cx="28576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так, я убедилась в том, что Миасс – край многонациональный. Этому свидетельствуют те факты, что в моем классе учатся дети разных национальностей. И самое главное открытие, что моё предположение оказалась верным: дружба в нашем классе не зависит от национа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Дружба и братство — лучше богатства».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равствуйте, меня зовут Пашнина Екатерина, я учусь в «3 г» классе школы №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ктуальность  моего проек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шей школе и классе учатся дети разных национальностей, но мы о них почти ничего  не знаем. Поэтому для исследования я выбрала тему: «Наш класс - многонациональная семья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моего проекта: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снить, влияет ли национальность на дружбу в нашем класс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меня возник вопрос, а как в нашем классе относятся к детям иной национальности? Зависит ли дружба от национальной принадлежнос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500040" y="158256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оя гипоте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дружба в нашем классе не зависит от национальной принадле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одтверждения моей гипотезы мне предстоит решить ряд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зучить национальности г. Ми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зучить  национальный состав моего 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ровести анкетирование среди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знакомиться с националь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ями этих народ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мет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ники  -г класс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тература, С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меты бы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циональные костю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циональная кух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иск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бы подтвердить мою гипотезу мне нужно было собрать и изучить информа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1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Я встретилась с библиотекаре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лиала №24 на поселке Динамо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7640" y="1262160"/>
            <a:ext cx="4041720" cy="69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етила школьную библиоте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11" descr=""/>
          <p:cNvPicPr/>
          <p:nvPr/>
        </p:nvPicPr>
        <p:blipFill>
          <a:blip r:embed="rId1"/>
          <a:stretch/>
        </p:blipFill>
        <p:spPr>
          <a:xfrm>
            <a:off x="4361040" y="2133720"/>
            <a:ext cx="4098600" cy="2458800"/>
          </a:xfrm>
          <a:prstGeom prst="rect">
            <a:avLst/>
          </a:prstGeom>
          <a:ln w="0">
            <a:noFill/>
          </a:ln>
        </p:spPr>
      </p:pic>
      <p:cxnSp>
        <p:nvCxnSpPr>
          <p:cNvPr id="53" name="Прямая со стрелкой 8"/>
          <p:cNvCxnSpPr/>
          <p:nvPr/>
        </p:nvCxnSpPr>
        <p:spPr>
          <a:xfrm flipH="1">
            <a:off x="2915640" y="1125000"/>
            <a:ext cx="935640" cy="359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4" name="Объект 10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2122560" cy="295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F:\библиотека.jpg"/>
          <p:cNvPicPr/>
          <p:nvPr/>
        </p:nvPicPr>
        <p:blipFill>
          <a:blip r:embed="rId3"/>
          <a:stretch/>
        </p:blipFill>
        <p:spPr>
          <a:xfrm>
            <a:off x="2054160" y="3789360"/>
            <a:ext cx="2273400" cy="2952720"/>
          </a:xfrm>
          <a:prstGeom prst="rect">
            <a:avLst/>
          </a:prstGeom>
          <a:ln w="0">
            <a:noFill/>
          </a:ln>
        </p:spPr>
      </p:pic>
      <p:cxnSp>
        <p:nvCxnSpPr>
          <p:cNvPr id="56" name="Прямая со стрелкой 2"/>
          <p:cNvCxnSpPr/>
          <p:nvPr/>
        </p:nvCxnSpPr>
        <p:spPr>
          <a:xfrm>
            <a:off x="6875280" y="981000"/>
            <a:ext cx="649800" cy="504000"/>
          </a:xfrm>
          <a:prstGeom prst="straightConnector1">
            <a:avLst/>
          </a:prstGeom>
          <a:ln w="2844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ис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28440"/>
            <a:ext cx="404028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Calibri"/>
              </a:rPr>
              <a:t>Посетила Миасский краеведческий муз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Calibri"/>
              </a:rPr>
              <a:t>Работала с артифактами в музе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72000" y="785880"/>
            <a:ext cx="26636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етила школьный муз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14" descr=""/>
          <p:cNvPicPr/>
          <p:nvPr/>
        </p:nvPicPr>
        <p:blipFill>
          <a:blip r:embed="rId1"/>
          <a:stretch/>
        </p:blipFill>
        <p:spPr>
          <a:xfrm>
            <a:off x="6715080" y="3929040"/>
            <a:ext cx="2000160" cy="2714760"/>
          </a:xfrm>
          <a:prstGeom prst="rect">
            <a:avLst/>
          </a:prstGeom>
          <a:ln w="0">
            <a:noFill/>
          </a:ln>
        </p:spPr>
      </p:pic>
      <p:cxnSp>
        <p:nvCxnSpPr>
          <p:cNvPr id="61" name="Прямая со стрелкой 7"/>
          <p:cNvCxnSpPr/>
          <p:nvPr/>
        </p:nvCxnSpPr>
        <p:spPr>
          <a:xfrm flipH="1">
            <a:off x="2142360" y="332280"/>
            <a:ext cx="1739160" cy="4532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9"/>
          <p:cNvCxnSpPr/>
          <p:nvPr/>
        </p:nvCxnSpPr>
        <p:spPr>
          <a:xfrm>
            <a:off x="5219640" y="371160"/>
            <a:ext cx="3240720" cy="432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1"/>
          <p:cNvCxnSpPr/>
          <p:nvPr/>
        </p:nvCxnSpPr>
        <p:spPr>
          <a:xfrm>
            <a:off x="4571640" y="587160"/>
            <a:ext cx="1080" cy="432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Прямоугольник 13"/>
          <p:cNvSpPr/>
          <p:nvPr/>
        </p:nvSpPr>
        <p:spPr>
          <a:xfrm>
            <a:off x="3774960" y="1011240"/>
            <a:ext cx="2519640" cy="917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в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нке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F:\МУЗЕЙ И ПР,\SDC10038.JPG"/>
          <p:cNvPicPr/>
          <p:nvPr/>
        </p:nvPicPr>
        <p:blipFill>
          <a:blip r:embed="rId2"/>
          <a:stretch/>
        </p:blipFill>
        <p:spPr>
          <a:xfrm>
            <a:off x="457200" y="2000160"/>
            <a:ext cx="2530440" cy="264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F:\МУЗЕЙ И ПР,\SDC10025.JPG"/>
          <p:cNvPicPr/>
          <p:nvPr/>
        </p:nvPicPr>
        <p:blipFill>
          <a:blip r:embed="rId3"/>
          <a:stretch/>
        </p:blipFill>
        <p:spPr>
          <a:xfrm>
            <a:off x="428760" y="4429080"/>
            <a:ext cx="2643120" cy="214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4"/>
          <a:stretch/>
        </p:blipFill>
        <p:spPr>
          <a:xfrm>
            <a:off x="3643200" y="2143080"/>
            <a:ext cx="278604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5"/>
          <a:stretch/>
        </p:blipFill>
        <p:spPr>
          <a:xfrm>
            <a:off x="6786720" y="1500120"/>
            <a:ext cx="2000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результатам поиска я оформила национальный паспорт города Миасса.   Представляю его вашему внима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42960" y="1600200"/>
            <a:ext cx="2928960" cy="4757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4714920" y="1643040"/>
            <a:ext cx="33573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бы узнать национальный состав класса и выявить отношение детей к людям иных национальностей, я провела анкетирование. </a:t>
            </a: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Объект 4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зультат анкетирова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же относятся дети моего класса к людям других национальностей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24656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вопрос  «Как вы относитесь к тому, что в вашей школе учатся дети другой национальности?» ребята ответили.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Объект 6"/>
          <p:cNvGraphicFramePr/>
          <p:nvPr/>
        </p:nvGraphicFramePr>
        <p:xfrm>
          <a:off x="200160" y="2585880"/>
          <a:ext cx="4141800" cy="40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585880"/>
                    <a:ext cx="414180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1052640"/>
            <a:ext cx="40420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ть ли среди Ваших близких друзей люди других национальносте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Объект 7" descr=""/>
          <p:cNvPicPr/>
          <p:nvPr/>
        </p:nvPicPr>
        <p:blipFill>
          <a:blip r:embed="rId3"/>
          <a:stretch/>
        </p:blipFill>
        <p:spPr>
          <a:xfrm>
            <a:off x="4594320" y="2124000"/>
            <a:ext cx="4143240" cy="4052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8"/>
          <p:cNvSpPr/>
          <p:nvPr/>
        </p:nvSpPr>
        <p:spPr>
          <a:xfrm>
            <a:off x="468360" y="5950080"/>
            <a:ext cx="8280360" cy="79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ультаты анкетирования показывают, что дети  моего класса к иным национальностям настроены  дружелюб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2T18:00:28Z</dcterms:created>
  <dc:creator>DNA7 X86</dc:creator>
  <dc:description/>
  <dc:language>en-US</dc:language>
  <cp:lastModifiedBy>домашний</cp:lastModifiedBy>
  <dcterms:modified xsi:type="dcterms:W3CDTF">2019-11-08T16:24:25Z</dcterms:modified>
  <cp:revision>135</cp:revision>
  <dc:subject/>
  <dc:title>Слайд 1</dc:title>
</cp:coreProperties>
</file>